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Introducing a New Produc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99284c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Long-term Goal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te the intended goa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ustomer Wishe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scribe customer needs and wish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xplain the requiremen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Fulfilling </a:t>
            </a:r>
            <a:br>
              <a:rPr sz="4000"/>
            </a:b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ustomer Need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scribe the main attributes of the produc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ink the product attributes to customer need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ost Analysi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dicate the financial advantages for the custom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mpare quality and price with those of the competi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Strengths and Advantage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ummarize the special features and advantages of the product being introduc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Next Steps of Action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xplain the steps that now need to be take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1T16:50:49Z</dcterms:created>
  <dc:creator>Dan Smith</dc:creator>
  <dc:description>General introduction of a new product taking customer wishes into account</dc:description>
  <dc:language>en-US</dc:language>
  <cp:lastModifiedBy/>
  <cp:revision>1</cp:revision>
  <dc:subject/>
  <dc:title>Introducing a New Product</dc:title>
</cp:coreProperties>
</file>